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D048-DCB0-4772-9F2A-7A9CDC16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79F-88E2-4F19-876D-54C60201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B99-4F75-49AC-A343-A8B3C61A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1CD6-8552-47D6-8DA5-034F1A54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E61D-ABA4-4428-A272-B2EAFD19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4A2-2E9B-4515-AD7D-CCEE5BF1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BBA-ED01-493D-B01C-7E97EAE1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10C0-F169-4B70-8213-D14CA4B7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8203-CC38-43F0-BB75-1244CDA3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A2DB-F2DD-40AC-833A-D470DF1B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337B-C81E-43E9-B98E-A08FF92A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38A7-7E56-4936-967F-8269602C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AE31-2C77-434C-99DF-E8EE749F5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404640"/>
            <a:ext cx="58323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3640" cy="532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635200" y="4003200"/>
            <a:ext cx="28116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06840" y="2060280"/>
            <a:ext cx="14698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80000" y="1341360"/>
            <a:ext cx="21600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3909960"/>
            <a:ext cx="12060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2720" y="1986120"/>
            <a:ext cx="12096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57:48Z</dcterms:created>
  <dc:creator>SEMIR (changer!)</dc:creator>
  <dc:description/>
  <dc:language>en-US</dc:language>
  <cp:lastModifiedBy>SEMIR (changer!)</cp:lastModifiedBy>
  <dcterms:modified xsi:type="dcterms:W3CDTF">2009-06-30T19:58:55Z</dcterms:modified>
  <cp:revision>6</cp:revision>
  <dc:subject/>
  <dc:title>Diapositive 1</dc:title>
</cp:coreProperties>
</file>