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0.jpeg" ContentType="image/jpeg"/>
  <Override PartName="/ppt/media/image8.jpeg" ContentType="image/jpeg"/>
  <Override PartName="/ppt/media/image9.jpeg" ContentType="image/jpeg"/>
  <Override PartName="/ppt/media/image11.jpeg" ContentType="image/jpeg"/>
  <Override PartName="/ppt/media/image31.png" ContentType="image/png"/>
  <Override PartName="/ppt/media/image13.jpeg" ContentType="image/jpeg"/>
  <Override PartName="/ppt/media/image33.png" ContentType="image/png"/>
  <Override PartName="/ppt/media/image14.jpeg" ContentType="image/jpeg"/>
  <Override PartName="/ppt/media/image34.png" ContentType="image/png"/>
  <Override PartName="/ppt/media/image12.jpeg" ContentType="image/jpeg"/>
  <Override PartName="/ppt/media/image35.png" ContentType="image/png"/>
  <Override PartName="/ppt/media/image5.jpeg" ContentType="image/jpeg"/>
  <Override PartName="/ppt/media/image26.jpeg" ContentType="image/jpeg"/>
  <Override PartName="/ppt/media/image36.png" ContentType="image/png"/>
  <Override PartName="/ppt/media/image37.png" ContentType="image/png"/>
  <Override PartName="/ppt/media/image28.png" ContentType="image/png"/>
  <Override PartName="/ppt/media/image7.jpeg" ContentType="image/jpeg"/>
  <Override PartName="/ppt/media/image6.jpeg" ContentType="image/jpeg"/>
  <Override PartName="/ppt/media/image27.jpeg" ContentType="image/jpeg"/>
  <Override PartName="/ppt/media/image4.jpeg" ContentType="image/jpeg"/>
  <Override PartName="/ppt/media/image25.jpeg" ContentType="image/jpeg"/>
  <Override PartName="/ppt/media/image32.png" ContentType="image/png"/>
  <Override PartName="/ppt/media/image1.jpeg" ContentType="image/jpeg"/>
  <Override PartName="/ppt/media/image22.jpeg" ContentType="image/jpeg"/>
  <Override PartName="/ppt/media/image30.png" ContentType="image/png"/>
  <Override PartName="/ppt/media/image3.jpeg" ContentType="image/jpeg"/>
  <Override PartName="/ppt/media/image24.jpeg" ContentType="image/jpeg"/>
  <Override PartName="/ppt/media/image2.jpeg" ContentType="image/jpeg"/>
  <Override PartName="/ppt/media/image23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10234613" cy="7099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10234800" cy="709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4435560" cy="3538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797080" y="-360"/>
            <a:ext cx="4435560" cy="3538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lstStyle>
            <a:lvl1pPr indent="0" algn="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344400" y="531720"/>
            <a:ext cx="3551400" cy="266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cc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1023480" y="3371400"/>
            <a:ext cx="8186760" cy="31957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6742080"/>
            <a:ext cx="4435560" cy="3556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lstStyle>
            <a:lvl1pPr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797080" y="6742080"/>
            <a:ext cx="4435560" cy="3556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lstStyle>
            <a:lvl1pPr indent="0" algn="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714E9DEE-08EC-43A9-B0FD-C2203026A71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3344760" y="531720"/>
            <a:ext cx="3551400" cy="2664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1023480" y="3371400"/>
            <a:ext cx="8186760" cy="31957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 enter the pipeline later if we have a clean point set, or points with oriented normals, or points with unoriented normals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9ACD7-010B-486B-9813-B62510533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F16C4-1EB9-4EB7-A6AF-1B2D3F8E3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00FB7-6932-4D88-9828-47D96A8D9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5E6E2-42B6-4C77-AE6E-EBACB4249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7E56C-1550-41D8-82CC-4495F6BAD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75D1E-88B6-4B26-A8E0-C29B29DCA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CCCA4-3427-4811-AAF4-2522A3E98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71333-8F67-4787-AD18-82C345C75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DACA9-A3C1-48AD-BAC6-9D9C5F757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B5A0D-F942-4ADD-8C1E-D1C680A53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04BEF-8862-4339-B2B1-E592E2742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FF659-E80E-4084-8991-418A9D535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cc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2063F-3621-4270-8ECB-12C70294E5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4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5.png"/><Relationship Id="rId3" Type="http://schemas.openxmlformats.org/officeDocument/2006/relationships/image" Target="../media/image31.png"/><Relationship Id="rId4" Type="http://schemas.openxmlformats.org/officeDocument/2006/relationships/image" Target="../media/image36.png"/><Relationship Id="rId5" Type="http://schemas.openxmlformats.org/officeDocument/2006/relationships/image" Target="../media/image37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oisson</a:t>
            </a:r>
            <a:endParaRPr b="1" lang="en-US" sz="40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971960" y="5921280"/>
            <a:ext cx="33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: reconstructed su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95200" y="5807160"/>
            <a:ext cx="36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ft: 17K points sampled on an elephant (Minolta laser scann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791240" y="1955880"/>
            <a:ext cx="4038480" cy="38131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57200" y="1824120"/>
            <a:ext cx="3946680" cy="39830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803760" y="3889440"/>
            <a:ext cx="906480" cy="450720"/>
          </a:xfrm>
          <a:prstGeom prst="rightArrow">
            <a:avLst>
              <a:gd name="adj1" fmla="val 46481"/>
              <a:gd name="adj2" fmla="val 108483"/>
            </a:avLst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cc"/>
                </a:solidFill>
                <a:latin typeface="Arial"/>
              </a:rPr>
              <a:t>Poisson</a:t>
            </a:r>
            <a:endParaRPr b="1" lang="en-US" sz="4000" spc="-1" strike="noStrike">
              <a:solidFill>
                <a:srgbClr val="3366cc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260360" y="1600200"/>
            <a:ext cx="2432160" cy="21859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5430960" y="1600200"/>
            <a:ext cx="2473200" cy="21859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1258920" y="3938760"/>
            <a:ext cx="2433600" cy="218736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4"/>
          <a:stretch/>
        </p:blipFill>
        <p:spPr>
          <a:xfrm>
            <a:off x="5429160" y="3938760"/>
            <a:ext cx="2476440" cy="21873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255920" y="2489040"/>
            <a:ext cx="906480" cy="451080"/>
          </a:xfrm>
          <a:prstGeom prst="rightArrow">
            <a:avLst>
              <a:gd name="adj1" fmla="val 46481"/>
              <a:gd name="adj2" fmla="val 108396"/>
            </a:avLst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255920" y="4842000"/>
            <a:ext cx="906480" cy="450720"/>
          </a:xfrm>
          <a:prstGeom prst="rightArrow">
            <a:avLst>
              <a:gd name="adj1" fmla="val 46481"/>
              <a:gd name="adj2" fmla="val 108483"/>
            </a:avLst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1457280"/>
            <a:ext cx="4495680" cy="436716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4191120" y="1422360"/>
            <a:ext cx="4495680" cy="442908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oisson</a:t>
            </a:r>
            <a:endParaRPr b="1" lang="en-US" sz="40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971960" y="5921280"/>
            <a:ext cx="336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: point set simplified to 1K then reconstruc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95200" y="5807160"/>
            <a:ext cx="36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ft: 50K points sampled on Neptune trid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803760" y="3889440"/>
            <a:ext cx="906480" cy="450720"/>
          </a:xfrm>
          <a:prstGeom prst="rightArrow">
            <a:avLst>
              <a:gd name="adj1" fmla="val 46481"/>
              <a:gd name="adj2" fmla="val 108483"/>
            </a:avLst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oisson</a:t>
            </a:r>
            <a:endParaRPr b="1" lang="en-US" sz="40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971960" y="5921280"/>
            <a:ext cx="33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: reconstructed su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5200" y="5807160"/>
            <a:ext cx="36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ft: points sampled on a sphere with flipped norm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123840" y="1925640"/>
            <a:ext cx="3832200" cy="354960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4695840" y="1957320"/>
            <a:ext cx="3832200" cy="349092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4070520" y="3803760"/>
            <a:ext cx="906120" cy="450720"/>
          </a:xfrm>
          <a:prstGeom prst="rightArrow">
            <a:avLst>
              <a:gd name="adj1" fmla="val 46481"/>
              <a:gd name="adj2" fmla="val 108440"/>
            </a:avLst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1897200"/>
            <a:ext cx="4038480" cy="393048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4648320" y="1925640"/>
            <a:ext cx="4038480" cy="387504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oisson</a:t>
            </a:r>
            <a:endParaRPr b="1" lang="en-US" sz="40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971960" y="5921280"/>
            <a:ext cx="33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: reconstructed su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95200" y="5807160"/>
            <a:ext cx="399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ft: 4K points sampled on a mechanical piece with sharp ed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122720" y="3889440"/>
            <a:ext cx="906480" cy="450720"/>
          </a:xfrm>
          <a:prstGeom prst="rightArrow">
            <a:avLst>
              <a:gd name="adj1" fmla="val 46481"/>
              <a:gd name="adj2" fmla="val 108483"/>
            </a:avLst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cc"/>
                </a:solidFill>
                <a:latin typeface="Arial"/>
              </a:rPr>
              <a:t>Poisson duration wrt #input points</a:t>
            </a:r>
            <a:endParaRPr b="1" lang="en-US" sz="3600" spc="-1" strike="noStrike">
              <a:solidFill>
                <a:srgbClr val="3366cc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525600" y="1052640"/>
            <a:ext cx="7886520" cy="550224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2085840" y="1539720"/>
            <a:ext cx="1820880" cy="26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4" name=""/>
          <p:cNvGraphicFramePr/>
          <p:nvPr/>
        </p:nvGraphicFramePr>
        <p:xfrm>
          <a:off x="291960" y="2278080"/>
          <a:ext cx="8653680" cy="4359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1960" y="2278080"/>
                    <a:ext cx="8653680" cy="435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cc"/>
                </a:solidFill>
                <a:latin typeface="Arial"/>
              </a:rPr>
              <a:t>Surface meshing duration and error wrt approximation distance</a:t>
            </a:r>
            <a:endParaRPr b="1" lang="en-US" sz="3600" spc="-1" strike="noStrike">
              <a:solidFill>
                <a:srgbClr val="3366cc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3"/>
          <a:srcRect l="18091" t="0" r="15193" b="0"/>
          <a:stretch/>
        </p:blipFill>
        <p:spPr>
          <a:xfrm>
            <a:off x="2209680" y="2711520"/>
            <a:ext cx="1352520" cy="196992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4"/>
          <a:stretch/>
        </p:blipFill>
        <p:spPr>
          <a:xfrm>
            <a:off x="3767040" y="2711520"/>
            <a:ext cx="1265400" cy="197316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5"/>
          <a:stretch/>
        </p:blipFill>
        <p:spPr>
          <a:xfrm>
            <a:off x="5237280" y="2709720"/>
            <a:ext cx="1361880" cy="197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0" name=""/>
          <p:cNvGraphicFramePr/>
          <p:nvPr/>
        </p:nvGraphicFramePr>
        <p:xfrm>
          <a:off x="998640" y="2155680"/>
          <a:ext cx="7140600" cy="4311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8640" y="2155680"/>
                    <a:ext cx="7140600" cy="431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cc"/>
                </a:solidFill>
                <a:latin typeface="Arial"/>
              </a:rPr>
              <a:t>Memory wrt #input points</a:t>
            </a:r>
            <a:endParaRPr b="1" lang="en-US" sz="4000" spc="-1" strike="noStrike">
              <a:solidFill>
                <a:srgbClr val="3366cc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3"/>
          <a:srcRect l="19516" t="0" r="16539" b="0"/>
          <a:stretch/>
        </p:blipFill>
        <p:spPr>
          <a:xfrm>
            <a:off x="2216160" y="2155680"/>
            <a:ext cx="1495440" cy="22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cc"/>
                </a:solidFill>
                <a:latin typeface="Arial"/>
              </a:rPr>
              <a:t>Reconstruction error wrt #input points</a:t>
            </a:r>
            <a:endParaRPr b="1" lang="en-US" sz="3600" spc="-1" strike="noStrike">
              <a:solidFill>
                <a:srgbClr val="3366cc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576360" y="2149560"/>
          <a:ext cx="8075520" cy="4182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6360" y="2149560"/>
                    <a:ext cx="8075520" cy="41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67" name="" descr=""/>
          <p:cNvPicPr/>
          <p:nvPr/>
        </p:nvPicPr>
        <p:blipFill>
          <a:blip r:embed="rId3"/>
          <a:srcRect l="19516" t="0" r="16539" b="0"/>
          <a:stretch/>
        </p:blipFill>
        <p:spPr>
          <a:xfrm>
            <a:off x="6437160" y="2714760"/>
            <a:ext cx="1495440" cy="227160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4"/>
          <a:stretch/>
        </p:blipFill>
        <p:spPr>
          <a:xfrm>
            <a:off x="4292640" y="2798640"/>
            <a:ext cx="1401840" cy="210024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5"/>
          <a:stretch/>
        </p:blipFill>
        <p:spPr>
          <a:xfrm>
            <a:off x="2049480" y="2778120"/>
            <a:ext cx="1500120" cy="21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870440" y="1868400"/>
            <a:ext cx="4038480" cy="383724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PSS</a:t>
            </a:r>
            <a:endParaRPr b="1" lang="en-US" sz="40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971960" y="5921280"/>
            <a:ext cx="33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: reconstructed su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95200" y="5807160"/>
            <a:ext cx="36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ft: 17K points sampled on an elephant (Minolta laser scann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457200" y="1824120"/>
            <a:ext cx="3946680" cy="39830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3803760" y="3889440"/>
            <a:ext cx="906480" cy="450720"/>
          </a:xfrm>
          <a:prstGeom prst="rightArrow">
            <a:avLst>
              <a:gd name="adj1" fmla="val 46481"/>
              <a:gd name="adj2" fmla="val 108483"/>
            </a:avLst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rface_reconstruction_points_ 3 Pipeline</a:t>
            </a:r>
            <a:endParaRPr b="1" lang="en-US" sz="36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753160" y="2948040"/>
            <a:ext cx="1584360" cy="54936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nstr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512120" y="2948040"/>
            <a:ext cx="1584360" cy="54936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ou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512120" y="3700440"/>
            <a:ext cx="158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rface mesh gen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753160" y="3700440"/>
            <a:ext cx="15843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is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gebraic point set su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578560" y="3252960"/>
            <a:ext cx="172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37520" y="3252960"/>
            <a:ext cx="172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711760" y="1486080"/>
            <a:ext cx="3192480" cy="382320"/>
          </a:xfrm>
          <a:prstGeom prst="rect">
            <a:avLst/>
          </a:prstGeom>
          <a:solidFill>
            <a:srgbClr val="ffcc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lean points with oriented normal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rot="5400000">
            <a:off x="5559840" y="2237400"/>
            <a:ext cx="762120" cy="379440"/>
          </a:xfrm>
          <a:prstGeom prst="rightArrow">
            <a:avLst>
              <a:gd name="adj1" fmla="val 44769"/>
              <a:gd name="adj2" fmla="val 128044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rot="5400000">
            <a:off x="6142680" y="4923360"/>
            <a:ext cx="762120" cy="379440"/>
          </a:xfrm>
          <a:prstGeom prst="rightArrow">
            <a:avLst>
              <a:gd name="adj1" fmla="val 44769"/>
              <a:gd name="adj2" fmla="val 128044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rot="5400000">
            <a:off x="7847640" y="4923360"/>
            <a:ext cx="762120" cy="379440"/>
          </a:xfrm>
          <a:prstGeom prst="rightArrow">
            <a:avLst>
              <a:gd name="adj1" fmla="val 44769"/>
              <a:gd name="adj2" fmla="val 128044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751360" y="5767560"/>
            <a:ext cx="1484640" cy="699840"/>
          </a:xfrm>
          <a:prstGeom prst="rect">
            <a:avLst/>
          </a:prstGeom>
          <a:solidFill>
            <a:srgbClr val="99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implicit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510320" y="5767560"/>
            <a:ext cx="1492560" cy="699840"/>
          </a:xfrm>
          <a:prstGeom prst="rect">
            <a:avLst/>
          </a:prstGeom>
          <a:solidFill>
            <a:srgbClr val="99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urface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riangle mes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81080" y="2948040"/>
            <a:ext cx="1888920" cy="54936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244600" y="2948040"/>
            <a:ext cx="1582920" cy="54936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003560" y="2948040"/>
            <a:ext cx="1584360" cy="54936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rm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52280" y="3652920"/>
            <a:ext cx="1889280" cy="16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ounding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ounding sp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entro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verage spac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003560" y="3687840"/>
            <a:ext cx="15843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i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243160" y="3687840"/>
            <a:ext cx="174456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if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utlier remov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070000" y="3252960"/>
            <a:ext cx="173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827520" y="3252960"/>
            <a:ext cx="173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rot="5400000">
            <a:off x="3812040" y="2237400"/>
            <a:ext cx="762120" cy="379440"/>
          </a:xfrm>
          <a:prstGeom prst="rightArrow">
            <a:avLst>
              <a:gd name="adj1" fmla="val 44769"/>
              <a:gd name="adj2" fmla="val 128044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30720" y="1487520"/>
            <a:ext cx="1757160" cy="382680"/>
          </a:xfrm>
          <a:prstGeom prst="rect">
            <a:avLst/>
          </a:prstGeom>
          <a:solidFill>
            <a:srgbClr val="ffcc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lean point se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rot="5400000">
            <a:off x="8640" y="2255040"/>
            <a:ext cx="761760" cy="379440"/>
          </a:xfrm>
          <a:prstGeom prst="rightArrow">
            <a:avLst>
              <a:gd name="adj1" fmla="val 44769"/>
              <a:gd name="adj2" fmla="val 127984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52280" y="1517760"/>
            <a:ext cx="1314720" cy="382320"/>
          </a:xfrm>
          <a:prstGeom prst="rect">
            <a:avLst/>
          </a:prstGeom>
          <a:solidFill>
            <a:srgbClr val="ffcc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Point se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00160" y="5987880"/>
            <a:ext cx="348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(grayed out = in other CGAL packag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851120" y="5280120"/>
            <a:ext cx="2732040" cy="382320"/>
          </a:xfrm>
          <a:prstGeom prst="rect">
            <a:avLst/>
          </a:prstGeom>
          <a:solidFill>
            <a:srgbClr val="ffcc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Points with unoriented normal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 rot="16200000">
            <a:off x="3980520" y="4508280"/>
            <a:ext cx="762120" cy="379440"/>
          </a:xfrm>
          <a:prstGeom prst="rightArrow">
            <a:avLst>
              <a:gd name="adj1" fmla="val 44769"/>
              <a:gd name="adj2" fmla="val 128044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1417680"/>
            <a:ext cx="5616720" cy="457020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424640" y="2533680"/>
            <a:ext cx="1719360" cy="200340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oisson</a:t>
            </a:r>
            <a:endParaRPr b="1" lang="en-US" sz="40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971960" y="5921280"/>
            <a:ext cx="33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: reconstructed su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95200" y="5807160"/>
            <a:ext cx="398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ft: 120K points sampled on child statue (Minolta laser scann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720720" y="1417680"/>
            <a:ext cx="2676600" cy="396540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4086360" y="1098720"/>
            <a:ext cx="4600440" cy="44686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803760" y="3889440"/>
            <a:ext cx="906480" cy="450720"/>
          </a:xfrm>
          <a:prstGeom prst="rightArrow">
            <a:avLst>
              <a:gd name="adj1" fmla="val 46481"/>
              <a:gd name="adj2" fmla="val 108483"/>
            </a:avLst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oisson</a:t>
            </a:r>
            <a:endParaRPr b="1" lang="en-US" sz="40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971960" y="5921280"/>
            <a:ext cx="33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: reconstructed su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95200" y="5807160"/>
            <a:ext cx="36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ft: 120K points sampled on a statue (Minolta laser scann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1873080"/>
            <a:ext cx="4038480" cy="39783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4648320" y="1901880"/>
            <a:ext cx="4038480" cy="39225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3803760" y="3889440"/>
            <a:ext cx="906480" cy="450720"/>
          </a:xfrm>
          <a:prstGeom prst="rightArrow">
            <a:avLst>
              <a:gd name="adj1" fmla="val 46481"/>
              <a:gd name="adj2" fmla="val 108483"/>
            </a:avLst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885960" y="552600"/>
            <a:ext cx="3369960" cy="33192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049720" y="552600"/>
            <a:ext cx="3417840" cy="331920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960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cc"/>
                </a:solidFill>
                <a:latin typeface="Arial"/>
              </a:rPr>
              <a:t>Poisson</a:t>
            </a:r>
            <a:endParaRPr b="1" lang="en-US" sz="36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255920" y="2527200"/>
            <a:ext cx="906480" cy="451080"/>
          </a:xfrm>
          <a:prstGeom prst="rightArrow">
            <a:avLst>
              <a:gd name="adj1" fmla="val 46481"/>
              <a:gd name="adj2" fmla="val 108396"/>
            </a:avLst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255920" y="4879800"/>
            <a:ext cx="906480" cy="451080"/>
          </a:xfrm>
          <a:prstGeom prst="rightArrow">
            <a:avLst>
              <a:gd name="adj1" fmla="val 46481"/>
              <a:gd name="adj2" fmla="val 108396"/>
            </a:avLst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1336680" y="3938760"/>
            <a:ext cx="2724120" cy="26143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>
            <a:off x="5543640" y="3938760"/>
            <a:ext cx="2685960" cy="26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-98280" y="1065240"/>
            <a:ext cx="5213160" cy="5137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4730760" y="1106640"/>
            <a:ext cx="5213520" cy="5064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oisson</a:t>
            </a:r>
            <a:endParaRPr b="1" lang="en-US" sz="40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971960" y="5921280"/>
            <a:ext cx="33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: reconstructed su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95200" y="5807160"/>
            <a:ext cx="36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ft: 70K points with (emphasized) outli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965400" y="3889440"/>
            <a:ext cx="906480" cy="450720"/>
          </a:xfrm>
          <a:prstGeom prst="rightArrow">
            <a:avLst>
              <a:gd name="adj1" fmla="val 46481"/>
              <a:gd name="adj2" fmla="val 108483"/>
            </a:avLst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oisson</a:t>
            </a:r>
            <a:endParaRPr b="1" lang="en-US" sz="40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710240" y="5749920"/>
            <a:ext cx="397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: Bimba 120K reconstructed with distance = 0.15*average spa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95200" y="5730840"/>
            <a:ext cx="398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ft: Bimba 120K reconstructed with distance = 0.25*average spa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87480" y="1677960"/>
            <a:ext cx="4532040" cy="38466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4430880" y="1677960"/>
            <a:ext cx="4532040" cy="384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oisson</a:t>
            </a:r>
            <a:endParaRPr b="1" lang="en-US" sz="40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971960" y="5921280"/>
            <a:ext cx="33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: reconstructed su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95200" y="5807160"/>
            <a:ext cx="360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ft: 65K points sampled on a hand with no data at the wrist base (Kreon laser scann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457200" y="2138400"/>
            <a:ext cx="4038480" cy="34495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4648320" y="2138400"/>
            <a:ext cx="4038480" cy="34495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4041720" y="3889440"/>
            <a:ext cx="906480" cy="450720"/>
          </a:xfrm>
          <a:prstGeom prst="rightArrow">
            <a:avLst>
              <a:gd name="adj1" fmla="val 46481"/>
              <a:gd name="adj2" fmla="val 108483"/>
            </a:avLst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9T08:28:39Z</dcterms:created>
  <dc:creator>Nader SALMAN</dc:creator>
  <dc:description/>
  <dc:language>en-US</dc:language>
  <cp:lastModifiedBy>Laurent Saboret</cp:lastModifiedBy>
  <dcterms:modified xsi:type="dcterms:W3CDTF">2009-08-24T15:42:02Z</dcterms:modified>
  <cp:revision>587</cp:revision>
  <dc:subject/>
  <dc:title>Slide 1</dc:title>
</cp:coreProperties>
</file>