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79708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344400" y="531720"/>
            <a:ext cx="355140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79708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B6C254A-8292-45B3-9D8C-7393963CF3F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34476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enter the pipeline later if we have a clean point set, or points with oriented normals, or points with unoriented normal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DC33-4C4C-49E5-837B-3719B369D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1820-C164-4652-A50E-735DD874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F35A-9794-4024-A9B8-3D35AB5C2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9254-7BF5-4008-8988-83BC08108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0F50-AC03-4D1E-B2EE-251E160E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1FD0-FFC6-4310-9667-8F2E54C4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56A1-40CF-44E0-A4E1-0BC32F3F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3B3B-081F-443D-A5F6-9701E46E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2F27-6401-4D08-A93B-1B17CEE5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9F94-6D35-48EC-B40C-B16C12AF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A663-1015-481E-9408-FD781AFC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BF96-9188-4E3B-B31C-7A6F64FE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4BE8-2DC3-4991-AAC0-5720FE1CE95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88080" y="1874880"/>
            <a:ext cx="3330360" cy="3228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7600" y="1871640"/>
            <a:ext cx="4038480" cy="36576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int_set_processing_3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71960" y="5854680"/>
            <a:ext cx="33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point set cleaned and simplified to 17K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366408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5854680"/>
            <a:ext cx="35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275k points sampled on an elephant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nt_set_processing_3 Pipeline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3080" y="2948040"/>
            <a:ext cx="188892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06600" y="2948040"/>
            <a:ext cx="158292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6556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4280" y="3652920"/>
            <a:ext cx="18892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unding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unding 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spa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65560" y="3687840"/>
            <a:ext cx="1584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05160" y="3687840"/>
            <a:ext cx="17445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lier remo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32000" y="325296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89520" y="3252960"/>
            <a:ext cx="17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3974040" y="223740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9720" y="1487520"/>
            <a:ext cx="1757520" cy="38268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n point s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5304240" y="452340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11800" y="5281560"/>
            <a:ext cx="1932120" cy="700200"/>
          </a:xfrm>
          <a:prstGeom prst="rect">
            <a:avLst/>
          </a:prstGeom>
          <a:solidFill>
            <a:srgbClr val="99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n points with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riented norm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170280" y="2255040"/>
            <a:ext cx="761760" cy="379440"/>
          </a:xfrm>
          <a:prstGeom prst="rightArrow">
            <a:avLst>
              <a:gd name="adj1" fmla="val 44769"/>
              <a:gd name="adj2" fmla="val 12798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4280" y="1517760"/>
            <a:ext cx="131436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int s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13120" y="5280120"/>
            <a:ext cx="273204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ints with unoriented norm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 rot="16200000">
            <a:off x="4142160" y="4508640"/>
            <a:ext cx="762120" cy="379080"/>
          </a:xfrm>
          <a:prstGeom prst="rightArrow">
            <a:avLst>
              <a:gd name="adj1" fmla="val 44769"/>
              <a:gd name="adj2" fmla="val 128166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0160" y="5987880"/>
            <a:ext cx="34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grayed out = in other CGAL packag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652920"/>
            <a:ext cx="2232000" cy="9777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88520" y="6148440"/>
            <a:ext cx="64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rom 100K to 50k points by random simp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60520" y="1251000"/>
            <a:ext cx="6257880" cy="4786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rot="2025000">
            <a:off x="4271760" y="1015560"/>
            <a:ext cx="644400" cy="216396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025000">
            <a:off x="2971440" y="1008000"/>
            <a:ext cx="644400" cy="197316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2025000">
            <a:off x="1577880" y="3801600"/>
            <a:ext cx="463680" cy="102564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29600" y="6140520"/>
            <a:ext cx="49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rom 100K to 50k points by clus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71680" y="1265400"/>
            <a:ext cx="6183360" cy="47354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rot="2025000">
            <a:off x="4271760" y="1015560"/>
            <a:ext cx="644400" cy="216396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025000">
            <a:off x="2971440" y="1008000"/>
            <a:ext cx="644400" cy="197316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2025000">
            <a:off x="1577880" y="3801600"/>
            <a:ext cx="463680" cy="102564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46991" t="40439" r="0" b="0"/>
          <a:stretch/>
        </p:blipFill>
        <p:spPr>
          <a:xfrm>
            <a:off x="439560" y="1609560"/>
            <a:ext cx="3598920" cy="3907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rcRect l="46691" t="39246" r="0" b="0"/>
          <a:stretch/>
        </p:blipFill>
        <p:spPr>
          <a:xfrm>
            <a:off x="5132520" y="1609560"/>
            <a:ext cx="3922560" cy="41990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Normal Orientation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55840" y="5851440"/>
            <a:ext cx="44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rmal Orientation through M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26040" y="321300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25920" y="4186080"/>
            <a:ext cx="4160880" cy="10461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0800000">
            <a:off x="2992320" y="4716000"/>
            <a:ext cx="1046160" cy="801720"/>
          </a:xfrm>
          <a:custGeom>
            <a:avLst/>
            <a:gdLst>
              <a:gd name="textAreaLeft" fmla="*/ 0 w 1046160"/>
              <a:gd name="textAreaRight" fmla="*/ 1046520 w 1046160"/>
              <a:gd name="textAreaTop" fmla="*/ 0 h 801720"/>
              <a:gd name="textAreaBottom" fmla="*/ 802080 h 801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8:28:39Z</dcterms:created>
  <dc:creator>Nader SALMAN</dc:creator>
  <dc:description/>
  <dc:language>en-US</dc:language>
  <cp:lastModifiedBy>Laurent Saboret</cp:lastModifiedBy>
  <dcterms:modified xsi:type="dcterms:W3CDTF">2009-08-04T14:30:19Z</dcterms:modified>
  <cp:revision>550</cp:revision>
  <dc:subject/>
  <dc:title>Slide 1</dc:title>
</cp:coreProperties>
</file>