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89A-C5C2-4075-B1B5-CBFDE614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54B-3991-4429-8751-57EC564F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EFEB-3467-444C-8F91-072E8D73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DC9-0D06-4B7D-98FD-AE616DCB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A1C-DDD1-4FD8-A518-1986E177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281-32C9-492D-B978-E231D123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4DAE-9699-40B5-8C92-28DCEA86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CBF8-F87D-418D-92B6-D92CE4D6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F059-D9B2-44CC-9326-AB7757A1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1EDF-FE9F-4BA0-A76C-4AA38F57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0E79-053B-4F8A-A412-2A0B9E1E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758C-9D9A-45CD-B697-A9071C38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88C6-0714-4158-8353-F7E00E99C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404640"/>
            <a:ext cx="58323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3640" cy="532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635200" y="4003200"/>
            <a:ext cx="28116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06840" y="2060280"/>
            <a:ext cx="14698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80000" y="1341360"/>
            <a:ext cx="21600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3909960"/>
            <a:ext cx="12060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2720" y="1986120"/>
            <a:ext cx="12096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57:48Z</dcterms:created>
  <dc:creator>SEMIR (changer!)</dc:creator>
  <dc:description/>
  <dc:language>en-US</dc:language>
  <cp:lastModifiedBy>SEMIR (changer!)</cp:lastModifiedBy>
  <dcterms:modified xsi:type="dcterms:W3CDTF">2009-06-30T19:58:55Z</dcterms:modified>
  <cp:revision>6</cp:revision>
  <dc:subject/>
  <dc:title>Diapositive 1</dc:title>
</cp:coreProperties>
</file>