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4CCA-706E-4C3D-A743-34A4D236F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CA0D-8F9C-46B6-8299-708431651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038B-8E1B-415C-934C-BD79CF56E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A63D-E783-4ACB-806B-072212DE9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1B4F-F27D-4909-9422-ABE2A8510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C336-40EB-4BD4-B824-6ADBFDED1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915D-0DE8-4A35-8D8E-54B04E2F9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2130-02F4-4C25-9B57-06F782C2C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EFC8-0166-422C-8EEE-FE4252461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1839-A394-47CE-91FE-8440A3B4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8CA4-7D0A-4DAC-8410-34A2FB12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EC1F-A8E4-479A-AA8A-24F6A73F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F6B0B-2E47-473A-879C-605BC2AB2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33440" y="404640"/>
            <a:ext cx="5832360" cy="583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76360" y="620640"/>
            <a:ext cx="5543640" cy="5321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 flipV="1">
            <a:off x="2635200" y="4003200"/>
            <a:ext cx="281160" cy="25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3606840" y="2060280"/>
            <a:ext cx="1469880" cy="1368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5580000" y="1341360"/>
            <a:ext cx="216000" cy="21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89360" y="3909960"/>
            <a:ext cx="120600" cy="120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22720" y="1986120"/>
            <a:ext cx="120960" cy="120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30T12:57:48Z</dcterms:created>
  <dc:creator>SEMIR (changer!)</dc:creator>
  <dc:description/>
  <dc:language>en-US</dc:language>
  <cp:lastModifiedBy>SEMIR (changer!)</cp:lastModifiedBy>
  <dcterms:modified xsi:type="dcterms:W3CDTF">2009-06-30T19:58:55Z</dcterms:modified>
  <cp:revision>6</cp:revision>
  <dc:subject/>
  <dc:title>Diapositive 1</dc:title>
</cp:coreProperties>
</file>