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0234800" cy="70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435560" cy="353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797080" y="-360"/>
            <a:ext cx="4435560" cy="353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344400" y="531720"/>
            <a:ext cx="355140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79708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462E5BDF-713C-4C00-9D19-C8629B7C7EC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34476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enter the pipeline later if we have a clean point set, or points with oriented normals, or points with unoriented normal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3B1B-7D58-4D07-937B-76E69F117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7AEC-D29D-4469-9EC3-330503F36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B715-FD0F-4F54-876F-91644968E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44BA-5661-4920-BA75-A1AA0C732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B38D-5881-49E7-AD20-9D4D800F0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D5B7-AF09-43EB-9EB1-A2A980F37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050C-59A2-4DF4-B968-2A7D96FD4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DA21-6BAB-4E6B-8E7A-3348DC693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900F-4BA5-4CF6-A1DE-3D6513901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941C-C882-49C7-BE65-5B9EFA33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6025-42F6-473C-A0A6-C8C4CC77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625B-AF45-492C-BC68-83079B43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C59A8-A5D1-455B-8C39-50D4A2BCC7C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888080" y="1874880"/>
            <a:ext cx="3330360" cy="3228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7600" y="1871640"/>
            <a:ext cx="4038480" cy="36576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int_set_processing_3 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971960" y="5854680"/>
            <a:ext cx="336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point set cleaned and simplified to 17K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366408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5854680"/>
            <a:ext cx="359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275k points sampled on an elephant (Minolta laser sc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nt_set_processing_3 Pipeline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3080" y="2948040"/>
            <a:ext cx="1888920" cy="549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06600" y="2948040"/>
            <a:ext cx="1582920" cy="549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65560" y="2948040"/>
            <a:ext cx="1584360" cy="549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4280" y="3652920"/>
            <a:ext cx="18892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unding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unding sp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ro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erage spac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165560" y="3687840"/>
            <a:ext cx="1584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i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05160" y="3687840"/>
            <a:ext cx="174456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lier remo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32000" y="325296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89520" y="3252960"/>
            <a:ext cx="172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5400000">
            <a:off x="3974040" y="2237400"/>
            <a:ext cx="762120" cy="379440"/>
          </a:xfrm>
          <a:prstGeom prst="rightArrow">
            <a:avLst>
              <a:gd name="adj1" fmla="val 44769"/>
              <a:gd name="adj2" fmla="val 12804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9720" y="1487520"/>
            <a:ext cx="1757520" cy="382680"/>
          </a:xfrm>
          <a:prstGeom prst="rect">
            <a:avLst/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ean point se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5400000">
            <a:off x="5304240" y="4523400"/>
            <a:ext cx="762120" cy="379440"/>
          </a:xfrm>
          <a:prstGeom prst="rightArrow">
            <a:avLst>
              <a:gd name="adj1" fmla="val 44769"/>
              <a:gd name="adj2" fmla="val 128044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11800" y="5281560"/>
            <a:ext cx="1932120" cy="700200"/>
          </a:xfrm>
          <a:prstGeom prst="rect">
            <a:avLst/>
          </a:prstGeom>
          <a:solidFill>
            <a:srgbClr val="99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ean points with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riented norma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5400000">
            <a:off x="170280" y="2255040"/>
            <a:ext cx="761760" cy="379440"/>
          </a:xfrm>
          <a:prstGeom prst="rightArrow">
            <a:avLst>
              <a:gd name="adj1" fmla="val 44769"/>
              <a:gd name="adj2" fmla="val 12798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4280" y="1517760"/>
            <a:ext cx="1314360" cy="382320"/>
          </a:xfrm>
          <a:prstGeom prst="rect">
            <a:avLst/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oint se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13120" y="5280120"/>
            <a:ext cx="2732040" cy="382320"/>
          </a:xfrm>
          <a:prstGeom prst="rect">
            <a:avLst/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oints with unoriented norma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 rot="16200000">
            <a:off x="4142160" y="4508640"/>
            <a:ext cx="762120" cy="379080"/>
          </a:xfrm>
          <a:prstGeom prst="rightArrow">
            <a:avLst>
              <a:gd name="adj1" fmla="val 44769"/>
              <a:gd name="adj2" fmla="val 128166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00160" y="5987880"/>
            <a:ext cx="34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grayed out = in other CGAL packag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652920"/>
            <a:ext cx="2232000" cy="9777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mplification</a:t>
            </a:r>
            <a:endParaRPr b="1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88520" y="6148440"/>
            <a:ext cx="644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rom 100K to 50k points by random simpl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460520" y="1251000"/>
            <a:ext cx="6257880" cy="4786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 rot="2025000">
            <a:off x="4271760" y="1015560"/>
            <a:ext cx="644400" cy="2163960"/>
          </a:xfrm>
          <a:prstGeom prst="ellipse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025000">
            <a:off x="2971440" y="1008000"/>
            <a:ext cx="644400" cy="1973160"/>
          </a:xfrm>
          <a:prstGeom prst="ellipse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2025000">
            <a:off x="1577880" y="3801600"/>
            <a:ext cx="463680" cy="1025640"/>
          </a:xfrm>
          <a:prstGeom prst="ellipse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mplification</a:t>
            </a:r>
            <a:endParaRPr b="1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29600" y="6140520"/>
            <a:ext cx="491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rom 100K to 50k points by clust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71680" y="1265400"/>
            <a:ext cx="6183360" cy="47354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 rot="2025000">
            <a:off x="4271760" y="1015560"/>
            <a:ext cx="644400" cy="2163960"/>
          </a:xfrm>
          <a:prstGeom prst="ellipse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2025000">
            <a:off x="2971440" y="1008000"/>
            <a:ext cx="644400" cy="1973160"/>
          </a:xfrm>
          <a:prstGeom prst="ellipse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2025000">
            <a:off x="1577880" y="3801600"/>
            <a:ext cx="463680" cy="1025640"/>
          </a:xfrm>
          <a:prstGeom prst="ellipse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rcRect l="46991" t="40439" r="0" b="0"/>
          <a:stretch/>
        </p:blipFill>
        <p:spPr>
          <a:xfrm>
            <a:off x="439560" y="1609560"/>
            <a:ext cx="3598920" cy="39070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rcRect l="46691" t="39246" r="0" b="0"/>
          <a:stretch/>
        </p:blipFill>
        <p:spPr>
          <a:xfrm>
            <a:off x="5132520" y="1609560"/>
            <a:ext cx="3922560" cy="41990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 Normal Orientation</a:t>
            </a:r>
            <a:endParaRPr b="1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55840" y="5851440"/>
            <a:ext cx="44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ormal Orientation through M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226040" y="3213000"/>
            <a:ext cx="906480" cy="451080"/>
          </a:xfrm>
          <a:prstGeom prst="rightArrow">
            <a:avLst>
              <a:gd name="adj1" fmla="val 46481"/>
              <a:gd name="adj2" fmla="val 108396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25920" y="4186080"/>
            <a:ext cx="4160880" cy="10461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10800000">
            <a:off x="2992320" y="4716000"/>
            <a:ext cx="1046160" cy="801720"/>
          </a:xfrm>
          <a:custGeom>
            <a:avLst/>
            <a:gdLst>
              <a:gd name="textAreaLeft" fmla="*/ 0 w 1046160"/>
              <a:gd name="textAreaRight" fmla="*/ 1046520 w 1046160"/>
              <a:gd name="textAreaTop" fmla="*/ 0 h 801720"/>
              <a:gd name="textAreaBottom" fmla="*/ 802080 h 801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08:28:39Z</dcterms:created>
  <dc:creator>Nader SALMAN</dc:creator>
  <dc:description/>
  <dc:language>en-US</dc:language>
  <cp:lastModifiedBy>Laurent Saboret</cp:lastModifiedBy>
  <dcterms:modified xsi:type="dcterms:W3CDTF">2009-08-04T14:30:19Z</dcterms:modified>
  <cp:revision>550</cp:revision>
  <dc:subject/>
  <dc:title>Slide 1</dc:title>
</cp:coreProperties>
</file>