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358-58D7-450F-A173-FCE8CB21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BBE6-04B6-4203-8131-03A07A1D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E40-0F03-48B3-8C7C-A1602789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99E5-F32C-47F1-8041-EC0FA718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981-E2BF-41A6-82A7-150088B4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CB0E-F425-458A-9366-2D00F293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5C3-223B-41E2-ACBE-1E244DF2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289-70E7-4F51-9078-22BD56D7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FABA-7494-4E61-BA76-3D835F7F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EC65-8BCF-47BC-A8EF-8D810B76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27D-D4A6-4F37-8FAE-FCE349F0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9268-E044-4F0B-99F9-496C57D5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858C-50DB-49EB-81B6-C13D33EAC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404640"/>
            <a:ext cx="583236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43640" cy="532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2635200" y="4003200"/>
            <a:ext cx="281160" cy="2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606840" y="2060280"/>
            <a:ext cx="14698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80000" y="1341360"/>
            <a:ext cx="21600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3909960"/>
            <a:ext cx="12060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2720" y="1986120"/>
            <a:ext cx="12096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57:48Z</dcterms:created>
  <dc:creator>SEMIR (changer!)</dc:creator>
  <dc:description/>
  <dc:language>en-US</dc:language>
  <cp:lastModifiedBy>SEMIR (changer!)</cp:lastModifiedBy>
  <dcterms:modified xsi:type="dcterms:W3CDTF">2009-06-30T19:58:55Z</dcterms:modified>
  <cp:revision>6</cp:revision>
  <dc:subject/>
  <dc:title>Diapositive 1</dc:title>
</cp:coreProperties>
</file>