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3301-7A80-4720-A6D4-356EFC81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E607-51CB-4238-AA9E-51EBE888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5DA-D278-4246-8107-E5A08F81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454-87E4-4A46-B1DE-E66D7736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695-3299-4103-B0FA-871DEB3D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BF3B-C2BC-4C80-92EA-984C6131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5D4F-0FAD-4B08-9E44-E5DCF549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D643-354D-44E6-8CDD-CE0F7724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189-8387-4454-9672-DBEC03C9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5F7-264D-442B-B10B-C93422B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089-D394-49FC-ACE0-CB436BF5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2FF9-8817-41F3-BC47-DA018A2C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1A86E-0B01-49DB-81C0-CE255638B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3440" y="404640"/>
            <a:ext cx="5832360" cy="583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76360" y="620640"/>
            <a:ext cx="5543640" cy="5321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V="1">
            <a:off x="2635200" y="4003200"/>
            <a:ext cx="281160" cy="25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3606840" y="2060280"/>
            <a:ext cx="1469880" cy="1368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5580000" y="1341360"/>
            <a:ext cx="216000" cy="21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89360" y="3909960"/>
            <a:ext cx="12060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22720" y="1986120"/>
            <a:ext cx="120960" cy="120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12:57:48Z</dcterms:created>
  <dc:creator>SEMIR (changer!)</dc:creator>
  <dc:description/>
  <dc:language>en-US</dc:language>
  <cp:lastModifiedBy>SEMIR (changer!)</cp:lastModifiedBy>
  <dcterms:modified xsi:type="dcterms:W3CDTF">2009-06-30T19:58:55Z</dcterms:modified>
  <cp:revision>6</cp:revision>
  <dc:subject/>
  <dc:title>Diapositive 1</dc:title>
</cp:coreProperties>
</file>