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797080" y="-360"/>
            <a:ext cx="4435560" cy="353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44400" y="531720"/>
            <a:ext cx="355140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797080" y="674208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49D08849-598E-45E7-9493-3858892CA7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3344760" y="531720"/>
            <a:ext cx="3551400" cy="2664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023480" y="3371400"/>
            <a:ext cx="8186760" cy="31957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nter the pipeline later if we have a clean point set, or points with oriented normals, or points with unoriented normal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576-8D0A-4AF4-84B8-A00CE7C2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79A-534C-4C16-BBF9-A046A04E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27C9-643D-4B8C-922F-591276A1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7C6F-81F8-4FE2-8913-952D76DA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022-6659-40D9-8025-00DAEA4E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692-8587-40DF-ADFE-D75B79E9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5AB-A884-402A-81D9-6EED0C96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2F4-F9B8-425F-BCE2-5ABD7681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D0F-EC94-40E3-A48C-354907C8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46F-38B6-4198-BC21-69C1B101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707-EA2C-4BC9-9FF3-C5A4EA55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1D3-331D-4C07-A163-5E0D9A6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073A-6C6B-4BBB-8CD3-26F301CF2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png"/><Relationship Id="rId3" Type="http://schemas.openxmlformats.org/officeDocument/2006/relationships/image" Target="../media/image31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91240" y="1955880"/>
            <a:ext cx="4038480" cy="3813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2432160" cy="2185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430960" y="1600200"/>
            <a:ext cx="2473200" cy="2185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258920" y="3938760"/>
            <a:ext cx="2433600" cy="2187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429160" y="3938760"/>
            <a:ext cx="2476440" cy="2187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255920" y="248904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55920" y="484200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457280"/>
            <a:ext cx="4495680" cy="436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191120" y="1422360"/>
            <a:ext cx="4495680" cy="4429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71960" y="5921280"/>
            <a:ext cx="33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point set simplified to 1K then re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50K points sampled on Neptune tr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points sampled on a sphere with flipped 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23840" y="1925640"/>
            <a:ext cx="3832200" cy="3549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95840" y="1957320"/>
            <a:ext cx="3832200" cy="3490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070520" y="3803760"/>
            <a:ext cx="906120" cy="450720"/>
          </a:xfrm>
          <a:prstGeom prst="rightArrow">
            <a:avLst>
              <a:gd name="adj1" fmla="val 46481"/>
              <a:gd name="adj2" fmla="val 108440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897200"/>
            <a:ext cx="4038480" cy="3930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8320" y="1925640"/>
            <a:ext cx="4038480" cy="3875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5200" y="5807160"/>
            <a:ext cx="39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4K points sampled on a mechanical piece with sharp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22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 duration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5600" y="1052640"/>
            <a:ext cx="7886520" cy="5502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085840" y="1539720"/>
            <a:ext cx="1820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91960" y="2278080"/>
          <a:ext cx="8653680" cy="435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960" y="2278080"/>
                    <a:ext cx="8653680" cy="43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Surface meshing duration and error wrt approximation distanc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rcRect l="18091" t="0" r="15193" b="0"/>
          <a:stretch/>
        </p:blipFill>
        <p:spPr>
          <a:xfrm>
            <a:off x="2209680" y="2711520"/>
            <a:ext cx="1352520" cy="196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3767040" y="2711520"/>
            <a:ext cx="1265400" cy="1973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5237280" y="2709720"/>
            <a:ext cx="1361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998640" y="2155680"/>
          <a:ext cx="7140600" cy="431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2155680"/>
                    <a:ext cx="7140600" cy="43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emory wrt #input point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2216160" y="2155680"/>
            <a:ext cx="149544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Reconstruction error wrt #input poi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76360" y="2149560"/>
          <a:ext cx="8075520" cy="418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149560"/>
                    <a:ext cx="8075520" cy="41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3"/>
          <a:srcRect l="19516" t="0" r="16539" b="0"/>
          <a:stretch/>
        </p:blipFill>
        <p:spPr>
          <a:xfrm>
            <a:off x="6437160" y="2714760"/>
            <a:ext cx="1495440" cy="2271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4292640" y="2798640"/>
            <a:ext cx="1401840" cy="21002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2049480" y="2778120"/>
            <a:ext cx="1500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870440" y="1868400"/>
            <a:ext cx="4038480" cy="38372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PS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7K points sampled on an elephant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57200" y="1824120"/>
            <a:ext cx="3946680" cy="3983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rface_reconstruction_points_ 3 Pipeline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7531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1212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12120" y="370044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 mesh gen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53160" y="3700440"/>
            <a:ext cx="15843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gebraic point set su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7856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37520" y="3252960"/>
            <a:ext cx="172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11760" y="1486080"/>
            <a:ext cx="319248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s with 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55598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614268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7847640" y="492336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51360" y="5767560"/>
            <a:ext cx="148464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licit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10320" y="5767560"/>
            <a:ext cx="1492560" cy="699840"/>
          </a:xfrm>
          <a:prstGeom prst="rect">
            <a:avLst/>
          </a:prstGeom>
          <a:solidFill>
            <a:srgbClr val="99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rfac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iangle mes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1080" y="2948040"/>
            <a:ext cx="1888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44600" y="2948040"/>
            <a:ext cx="158292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03560" y="2948040"/>
            <a:ext cx="1584360" cy="549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3652920"/>
            <a:ext cx="18892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unding 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o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spa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03560" y="368784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3160" y="3687840"/>
            <a:ext cx="174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lier remo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7000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27520" y="3252960"/>
            <a:ext cx="173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3812040" y="223740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30720" y="1487520"/>
            <a:ext cx="1757160" cy="38268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n 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5400000">
            <a:off x="8640" y="2255040"/>
            <a:ext cx="761760" cy="379440"/>
          </a:xfrm>
          <a:prstGeom prst="rightArrow">
            <a:avLst>
              <a:gd name="adj1" fmla="val 44769"/>
              <a:gd name="adj2" fmla="val 12798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17760"/>
            <a:ext cx="131472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 s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987880"/>
            <a:ext cx="34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grayed out = in other CGAL packag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51120" y="5280120"/>
            <a:ext cx="2732040" cy="3823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ints with unoriented norma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 rot="16200000">
            <a:off x="3980520" y="4508280"/>
            <a:ext cx="762120" cy="379440"/>
          </a:xfrm>
          <a:prstGeom prst="rightArrow">
            <a:avLst>
              <a:gd name="adj1" fmla="val 44769"/>
              <a:gd name="adj2" fmla="val 12804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417680"/>
            <a:ext cx="5616720" cy="45702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24640" y="2533680"/>
            <a:ext cx="1719360" cy="20034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200" y="580716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child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20720" y="1417680"/>
            <a:ext cx="2676600" cy="3965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086360" y="1098720"/>
            <a:ext cx="4600440" cy="44686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120K points sampled on a statue (Minolta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038480" cy="3978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648320" y="1901880"/>
            <a:ext cx="4038480" cy="3922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376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85960" y="552600"/>
            <a:ext cx="3369960" cy="3319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49720" y="552600"/>
            <a:ext cx="3417840" cy="33192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Poiss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55920" y="25272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55920" y="4879800"/>
            <a:ext cx="906480" cy="451080"/>
          </a:xfrm>
          <a:prstGeom prst="rightArrow">
            <a:avLst>
              <a:gd name="adj1" fmla="val 46481"/>
              <a:gd name="adj2" fmla="val 108396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336680" y="3938760"/>
            <a:ext cx="2724120" cy="26143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43640" y="3938760"/>
            <a:ext cx="268596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98280" y="1065240"/>
            <a:ext cx="5213160" cy="5137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30760" y="1106640"/>
            <a:ext cx="5213520" cy="5064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5200" y="5807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70K points with (emphasized) out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540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0240" y="5749920"/>
            <a:ext cx="39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Bimba 120K reconstructed with distance = 0.1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5200" y="5730840"/>
            <a:ext cx="39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Bimba 120K reconstructed with distance = 0.25*average spa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7480" y="1677960"/>
            <a:ext cx="4532040" cy="3846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430880" y="1677960"/>
            <a:ext cx="4532040" cy="38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isson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971960" y="592128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: reconstruct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5200" y="5807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: 65K points sampled on a hand with no data at the wrist base (Kreon laser sca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57200" y="2138400"/>
            <a:ext cx="4038480" cy="3449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648320" y="2138400"/>
            <a:ext cx="4038480" cy="34495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41720" y="3889440"/>
            <a:ext cx="906480" cy="450720"/>
          </a:xfrm>
          <a:prstGeom prst="rightArrow">
            <a:avLst>
              <a:gd name="adj1" fmla="val 46481"/>
              <a:gd name="adj2" fmla="val 108483"/>
            </a:avLst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8:28:39Z</dcterms:created>
  <dc:creator>Nader SALMAN</dc:creator>
  <dc:description/>
  <dc:language>en-US</dc:language>
  <cp:lastModifiedBy>Laurent Saboret</cp:lastModifiedBy>
  <dcterms:modified xsi:type="dcterms:W3CDTF">2009-08-24T15:42:02Z</dcterms:modified>
  <cp:revision>587</cp:revision>
  <dc:subject/>
  <dc:title>Slide 1</dc:title>
</cp:coreProperties>
</file>